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171-D554-422A-B3BE-A91CAC39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DB6-1043-411F-A544-A152C817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294-FA4E-44A8-A12A-F9544AE5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9CE-6741-443C-B992-957002B3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E9E-87EC-41F9-B508-E46BC4D7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0CD-939B-4D5E-88EE-C8FD0958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7E8-B3B9-4C6D-A150-5029E545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7F2-D2FF-4020-B40E-C40A6FB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F8E-DB9E-4B78-B950-1974848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2E6-7BA3-4EFF-896C-517B1318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DB9-2990-4647-9128-3DA446D3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E20-9990-4E3D-A73F-8E139DFE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0378-C9C8-4A31-87B5-EE117618CB5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7E71-F88D-4939-9853-0DD6CA0CD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aveguides and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ircul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nd in radar applications where it is necessary to have continuously rotating s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s can be rotationally symmetri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-sectional area must be more than double that of rectangular 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expensive; takes up more space than rectangular 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idg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operation at lower frequencies for a given set of outside dimen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attenuation and combined with its higher cost, limits it to special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or applications where continuous flexing occur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-wound ribbons of brass or copp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Waveguide Consider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Atten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guides propagate huge amounts of pow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ies below cutoff, attenuation in waveguide very lar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Waveguide Consider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Atten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ies above cutoff, guide supports traveling wa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nds and twis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 bend, E bend, tw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unt, series, hybrid or mag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n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lide-screw and double-slu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rmination and Attenu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edance of wavegu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l to ratio of strength of electric field to strength of magnetic fiel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place to connect fixed resistor to terminate it in its characteristic (wave) impedance as there is on coaxial c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inations designed to match impedance of guide to ensure minimum of refl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rmination and Attenu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Attenua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late source from reflections at its load to preclude frequency pu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 signal lev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 signal lev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p attenuator and vane attenua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rectional Coupl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-hole directional coup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pieces of waveguide with one side common to both guides and two holes in this common sid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ional coup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s energy from primary to adjacent secondary waveguide for energy traveling in guide in one direction on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upling and Waveguide Energy and Cavity Reson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methods of coupling energy into or out of a waveguid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e, loop, aper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vity Resona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l-walled chambers fitted with devices for admitting and extracting electromagnetic energ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ous physical forms; basic principles of operation the same for a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upling and Waveguide Energy and Cavity Reson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vity Tun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nant frequency of a cavity varied by changing any of three parameter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vity volu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vity induc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vity capaci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arison of Transmission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 of energy transmission depends 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cost and long-term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band to be used and information-carrying capa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ivity or privacy off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iability and noise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level and 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acronym formed from words radio detection and rang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 of locating objects measurement of three coordina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ge, angle of azimuth (horizontal direction), angle of elev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r and recei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rger a radar antenna; the better the system’s resolu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Waveform and Range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 repetition frequency (PRF) or pulse repetition rate (PR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ber of pulses transmitted per seco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 repetition time (PR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 from beginning of one pulse to beginning of next pul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Waveform and Range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between pul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t time or receiver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ar mile equal to 2000 yd or 6000 f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System Parame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return echo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rive after transmission of next pul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unambiguous r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ge beyond which targets appear as second return echo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System Parame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ar transmi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F energy in extremely short pulses with long intervals of rest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peak p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irable for strong ech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sic Radar Block Diagr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-forming circuits in modulator triggered by timer and generate high-voltage pulses of rectangular shape and short du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ppler Eff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reflected signal shifted if there is relative motion between source and reflecting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integrated Circuit Wavegui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crowave integrated circuits (M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-film hybrid and monolithic integrated circuits used at microwave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pline and microstrip determined by physical dimensions and type of dielectr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trip circuit equivalents and dielectric wave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problems similar to ordinary transmission line proble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used to carry large amounts of microwave power capable of burning skin and damaging eyesigh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ver work on waveguide runs or antennas connected to transmitter or radar system is off and cannot be turned 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surface separating two media of distinctly different conductivities or permittivities has guiding effect on electromagnetic wav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t guiding surface is between good dielectric and good conduct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llow metal tube or pipe used to conduct electromagnetic waves through its int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Op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 propagated by wave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omagneti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propagates down waveguide in radio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Op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guration of fields determines mode of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M (transverse magnet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 of waveguide operation; magnetic field has no component in direction of propag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minant Mode of Op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e of operation dominant mode; most “natural” one for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guide thought of as high-pass filter; only very high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above waveguide cutoff frequency, can be propaga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5-1: Waveguide Bands/Si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-1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Waveguide Bands/Siz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5" descr="tab15_01.jpg"/>
          <p:cNvPicPr/>
          <p:nvPr/>
        </p:nvPicPr>
        <p:blipFill>
          <a:blip r:embed="rId1"/>
          <a:stretch/>
        </p:blipFill>
        <p:spPr>
          <a:xfrm>
            <a:off x="533520" y="228600"/>
            <a:ext cx="8013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hysical Picture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veguid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wave to exist in waveguide, it must satisfy Maxwell’s equations through the waveguid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can be no tangential component of electric field at walls of wave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elds in T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aveguide resultant fields produced by ordinary plane electromagnetic wave that travels back and forth between sides of the 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51:31Z</dcterms:modified>
  <cp:revision>6</cp:revision>
  <dc:subject/>
  <dc:title>Slide 1</dc:title>
</cp:coreProperties>
</file>